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91296B-87DF-459D-8E9B-A0184C2533D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3B2EBA-2F72-4218-A7A0-F4FCDFFB23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F97941-4C4F-4B2D-80FC-2FD12E3BA4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his slide to advance to play the embedded You tube clip – 1minute. You need Internet access to play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53EE55-D3C7-4339-9533-B30D832B32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Tube Video clip 60sec. If this You Tube clip doesn’t play, link is: https://youtu.be/a-LX-nLkbRU or download from https://alltogether.co.nz/hopeproject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1F1391-E6BC-4633-9785-9A5A33FBEA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C96B4F-B744-4515-A2C9-EDC980CF4E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2E62-B2D5-4614-A439-9C75C5CA5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337C-2406-44C7-94BB-B9D5942A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586A-11A0-4EB2-8E76-8CA11EC9A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4E56-4461-4FB0-BDD6-AEB3C8AF7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777F-B55A-496D-B7DD-B8DB909D8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2C9B-40D7-4E0E-8342-101CDD3BB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60E4-058F-47B9-81BC-A4D41CD45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D4D0-5FCF-464D-9F80-F594CE9F6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7798-51E8-4BA4-B937-0FA3F3CB6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AFB0-7849-47CB-9806-61CBB2B7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74B6-72AB-4282-8BD1-4D548861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A9DA-59F2-4772-876B-E63479C8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206AD0-DE2D-4587-B28C-F17A56756E8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7BA9AA-6122-40BD-9D31-5FF237138A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a-LX-nLkbRU?autoplay=1;rel=0&amp;showinfo=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 rot="16200000">
            <a:off x="-3176280" y="1976040"/>
            <a:ext cx="514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is You Tube clip doesn’t play, link is: https://youtu.be/a-LX-nLkbRU or download from https://alltogether.co.nz/hopeproj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20T01:32:27Z</dcterms:created>
  <dc:creator>dave mann</dc:creator>
  <dc:description/>
  <dc:language>en-US</dc:language>
  <cp:lastModifiedBy>Beau Spicer</cp:lastModifiedBy>
  <dcterms:modified xsi:type="dcterms:W3CDTF">2018-01-25T03:21:14Z</dcterms:modified>
  <cp:revision>35</cp:revision>
  <dc:subject/>
  <dc:title>Slide 1</dc:title>
</cp:coreProperties>
</file>